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37EE-77D0-4EB2-8898-C895351D8B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317D-57D0-4332-8503-D7347EB23D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8682-441E-4163-B0D0-DD784BD5C2C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6850-E850-4990-AF1F-E36B6E00F0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ACAD-93BC-4CD1-BC60-3A6858B437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4AFC-04B3-4716-A006-826E728F45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4FC5-C784-4B7F-AFE1-3F9EFE5793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2CE0-07A4-4912-A894-A7412D76448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A30F-8DAF-43F5-87DE-189A6BEB7D8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9F4F-BBC5-4F6E-8D45-FD11A74484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5718-7489-4827-AA36-4A98F88F089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6F7A-112B-4083-9CF6-645F17A054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B44B-BE57-4742-9734-6A5791BA5D6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205A-692D-412B-808F-9100CF30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C408-8909-469F-B4CB-6CCF1B20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D46-3D0C-4811-A0EA-9A46B5EE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0645-6924-4B4B-B720-0C4BD40B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4B92-D7F7-4EC3-A7E6-72CB91F7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3E0C-DF48-4620-85A2-C91B89FA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1C35-2FB3-4952-BD3D-7FB3AF9A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33F4-DA10-482A-A4DC-C3D36336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6DA-E2DD-4492-BDB6-F80E4E80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04BB-E342-4978-B182-6E163F6F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249-DC46-4CDF-A052-DECECE17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A782-27E7-449B-8BDA-8224FA8A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AA82-7D14-4691-9C57-CD3211A99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BA- EBF Confer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-regional Banking Cooperation: Solid Financial Future</a:t>
            </a:r>
            <a:br>
              <a:rPr sz="3200"/>
            </a:br>
            <a:br>
              <a:rPr sz="2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levance of the Experience of Financial Integration in Europe to the Eurasian Markets”</a:t>
            </a:r>
            <a:br>
              <a:rPr sz="3200"/>
            </a:b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uido Ravoet, EBF Secretary General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rsday, 27 May 2010 - Baku, Azerbaij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508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508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508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4200" y="2571840"/>
              <a:ext cx="131508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9200" y="2571840"/>
              <a:ext cx="131508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280" y="2571840"/>
              <a:ext cx="131508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8920" y="2571840"/>
              <a:ext cx="131508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levance of EU experience for Eura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ut sufficient effort into prepara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joint commit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nsure continuous participation &amp; involve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ke into account all regions’ differ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onitor integration of various market’ seg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political stability and sound monetary and fiscal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Per aspera ad a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path might be challenging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benefits are worth the effor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0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16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r attention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1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18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2" name="Rectangle 39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40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tangle 41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42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tangle 43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44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45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97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EBF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98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18" descr="Carte Europe.jpg"/>
          <p:cNvPicPr/>
          <p:nvPr/>
        </p:nvPicPr>
        <p:blipFill>
          <a:blip r:embed="rId2"/>
          <a:stretch/>
        </p:blipFill>
        <p:spPr>
          <a:xfrm>
            <a:off x="1214280" y="1285920"/>
            <a:ext cx="5126040" cy="5559480"/>
          </a:xfrm>
          <a:prstGeom prst="rect">
            <a:avLst/>
          </a:prstGeom>
          <a:ln w="0">
            <a:noFill/>
          </a:ln>
        </p:spPr>
      </p:pic>
      <p:sp>
        <p:nvSpPr>
          <p:cNvPr id="66" name="Text Placeholder 3"/>
          <p:cNvSpPr/>
          <p:nvPr/>
        </p:nvSpPr>
        <p:spPr>
          <a:xfrm>
            <a:off x="6357960" y="1428840"/>
            <a:ext cx="2571840" cy="52862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BE" sz="1800" spc="-1" strike="noStrike">
                <a:solidFill>
                  <a:srgbClr val="1f497d"/>
                </a:solidFill>
                <a:latin typeface="Calibri"/>
              </a:rPr>
              <a:t>31 national member associ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27 EU Member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4 EFTA cou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13 Associ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787"/>
          <p:cNvSpPr/>
          <p:nvPr/>
        </p:nvSpPr>
        <p:spPr>
          <a:xfrm>
            <a:off x="6429240" y="318132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788"/>
          <p:cNvSpPr/>
          <p:nvPr/>
        </p:nvSpPr>
        <p:spPr>
          <a:xfrm>
            <a:off x="6429240" y="407196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789"/>
          <p:cNvSpPr/>
          <p:nvPr/>
        </p:nvSpPr>
        <p:spPr>
          <a:xfrm>
            <a:off x="6429240" y="496728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19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820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821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822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823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824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825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826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Definition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market for a given set of financial instruments and/or services is fully integrated if all potential market participants with the same relevant characteris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face a single set of rules when they decide to deal with those financial instruments and/or servi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ave equal access to the above-mentioned set of financial instruments and/or services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re treated equally when they are active in the mark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enefits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opportunities for risk sharing and risk diversific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etter allocation of capital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mproved liquidity of markets and strengthened resilience to shock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ooth operation of payment system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nhanced information and competitiveness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Potential for higher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onditions for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o benefit from financial integration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inter alia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wo core conditions must be me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mpletion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all segments of financial integration in the region,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stability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this financially integrated reg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eps towards EU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60s – removal of restrictions on freedom of establishment and freedom of provision of servi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87 – Single European Ac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0 – Economic Monetary Union (freedom of the movement of capital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9 – Financial Services Action Plan and introduction of the eur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2005 – White Paper of Financial Services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igns of increasing integration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transaction volu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diversified reserve currency system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ond market integr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quities market integration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sector integr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ability and financial super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integration and development can increase the efficiency of a financial system, if it is accompanied by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dequate legal and regulatory framework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rporate governance, market infrastructur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supervision should assess, in real tim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build-up of within-market ris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cross-market contagion,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linkages between large and complex financial institu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6-01T08:16:21Z</dcterms:modified>
  <cp:revision>115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